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C32-8029-4983-AD09-4C1F3242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A73-B966-4469-BC0E-A173236F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622-CE79-4883-97C8-DEC28A3A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0B7-2AF4-486A-8F29-57C7BB13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892-4E3E-4195-990A-AF012448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5D1-A79E-419C-89B9-0B2D8ECA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68A-A482-468D-907F-642AC00B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E42-8432-43AB-BCB7-55DDE845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BE7-638B-40EF-84CA-BE841641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30C-6ADF-4D07-8B94-6D9736E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142-68F9-4E4B-A03C-95F12157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E4F-F94E-47D7-BEC8-A3C09FE2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7E23-CFA3-4A44-8410-3B9B0420C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Aldehyde und Ketone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 Referat von Bibi und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zeich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chiede Ketone/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schaften 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schaften Ke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weis von Aldehy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Aldehyde</a:t>
            </a:r>
            <a:br>
              <a:rPr sz="40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zeichnung Aldehyde wurde von Justus von Liebig im Jahre 1835 eingefüh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chemische Verbindungen, die als funktionelle Gruppe eine endständige Carbonylgruppe (CHO) enth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ton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chemische Verbind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lle Gruppe: c=o--&gt;Carbonylgrup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e entalten eine nicht endständige Carbonylgruppe (Ketogrup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mit 2 weiteren Kohlenstoffatomen verbunden= CO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Unterschiede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dehyde/ Ke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werden hergestellt, indem primäre Alkohole unter Einwirkung eines Oxidationsmittels oxidiert werd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 Oxidations- und Dehydrierungsprodukte und können aus sekundären Alkoholen hergestellt we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infachste Aldehyd ist Methanal ( Formaldehyd), dieses wird als Desunfektionsmittel verw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infachste Keton ist Aceton, dieses wird als Lösungsmittel verw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uffix bei den Aldehyden wird mit – al gekennzeichnet, so wird aus Metha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eth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uffix bei den Ketonen wird mit – on gekennzeichnet, so wird aus Propa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Propa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genschaften</a:t>
            </a:r>
            <a:br>
              <a:rPr sz="40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dehy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dehyde bilden homologe Reih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e lassen sich von den Alkanen ableiten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ka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Carbonyl- bzw. Aldehyd-Gruppe ist eine Osmophore Gruppe (-geruchstragende Gruppe) die für das Geruchsverhalten verantwortlich 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edrige Aldehyde, z.B. Acetaldehyd sind flüchtig und haben einen unangenehm stechenden, schleimhautreizenden Geruch, viele Aldehyde haben jedoch einen angenehm obstigen oder blumenartigen Geru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edepunkte der Aldehyde steigen mit den Molmassen und liegen niedriger als die der zugehörigen Alkoho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edrige Aldehyde sind wasserlöslich , die höheren jedoch n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genschafte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zkett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rblose, brennbare Flüssigkeiten mit bestimmtem Ger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t wasserlöslich aufgrund der Polarität der Carbonyl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tt- und benzinlösl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lecht oxidierb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ken nicht reduzier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ing Reaktion fällt negativ aus (Versu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tone zeigen aufgrund der vorhandenen Carbonylgruppe eine große Vielfalt chemischer Reaktionen ----&gt; Reaktionsfähigkeit schwächer als Aldehy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achweis von Aldehy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ehling- Probe wird zum Nachweis von Aldehyden benut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ch die Tollensprobe kann zum Nachweis von Aldehyden verwende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23:09:51Z</dcterms:created>
  <dc:creator>Sebastian</dc:creator>
  <dc:description/>
  <dc:language>en-US</dc:language>
  <cp:lastModifiedBy>Familie Petersen</cp:lastModifiedBy>
  <dcterms:modified xsi:type="dcterms:W3CDTF">2006-12-06T19:57:32Z</dcterms:modified>
  <cp:revision>8</cp:revision>
  <dc:subject/>
  <dc:title>Aldehyde und Ketone </dc:title>
</cp:coreProperties>
</file>